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F91-C4CA-4EBA-95A0-B12F028E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137-0C81-43D7-8851-B19E4F3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E62-4A78-4786-9A03-6B4E6884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488-731A-4644-8632-94006F77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858A-4855-41DB-A214-4289D40E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15F9-9C2D-4941-93E8-511931E7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424B-A884-4F88-8A4C-4FFE44BE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A539-596B-4FC5-BF69-A57C3168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EF07-F85B-4E86-85B2-A0EECC6B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8D2B-1923-4E81-872A-7B4778D0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D37D-144C-4EAA-9C5D-7EC97DB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59B-ABDA-47F6-AA4A-3E28C0D7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43AF-C7FC-442A-BF15-A2ABB36D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8497-EAB6-43B2-B4E2-5531B19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ED5E-DE0E-42CB-A44F-248B2A72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21AB-BA0B-40C2-A5F3-77C18916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F9F8-D4CC-4386-A783-F8625737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6337-B092-4AF7-8569-A2A404FA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682C2-01DE-4BE5-B76A-E10134C4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4455-3684-4DBC-9E65-5468F220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9F6D-A30E-479E-9574-DDCD29ED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B3CD-6B54-47FD-BBA2-A2847DA3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273-6A8D-4952-BE7C-D0F2B2D6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2079-AE5A-4F03-A021-47492678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CA09-BFD9-4295-8CEA-0B8A4DC3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20E6-5FB5-48CF-A389-9061BE9B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9021-D03B-4EA9-A148-BFDCB6F9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C786-2042-4F09-B4EA-96382CC6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9CB4-A36C-485D-85C9-599E6330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8FFD-E6EC-4DBD-892A-F9ADECE7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5D0DF-526F-412F-8D88-901C3B55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AC8B-96E0-439E-8D1D-E4B070A0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2F06-C750-47B1-867E-A020E5DD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D6A-45A9-4F3B-9285-96482195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67B4-3BF7-4E8B-93AD-6FDA03E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C4885-9EE3-4071-BF77-7B38313A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131B-8854-4FEB-95C3-24EBC3EC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159E-F2F7-4BE3-8490-03C8C362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AE72-6219-43E6-887B-D106F69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1D0DA-AB72-4B8B-AB6D-55B6E4A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DCDC-62F1-4CCC-871F-0676FDFD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BF1C-7F37-47F5-A79E-834F1796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B55E-FF6C-485C-9BE5-252AD12C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0FE-3A0D-4E5C-B8DC-FAD837B1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8E2-3A4F-47D2-BA30-0A61978B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E8E-FED0-4181-8242-50BADF59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410-458F-41F8-8E3F-84A0E33E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E10-7E8B-4A06-B5A1-61C67EE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346-A2BF-4FFA-88FA-C33ADF029C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58C4-606B-4F88-BBD6-FEA24C29CB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5F6-F353-4354-8B71-55828D8F8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AC58-8B59-4E75-B9E2-854ACD363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k12onlineconference.org/docs/k12online06-agenda.html" TargetMode="External"/><Relationship Id="rId3" Type="http://schemas.openxmlformats.org/officeDocument/2006/relationships/hyperlink" Target="http://www.umanitoba.ca/learning_technologies/connectivisim/" TargetMode="External"/><Relationship Id="rId4" Type="http://schemas.openxmlformats.org/officeDocument/2006/relationships/hyperlink" Target="http://www.umanitoba.ca/learning_technologies/connectivisim/" TargetMode="External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TAPIV_Cybersafety1_20_07.ppt" TargetMode="Externa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learningtimes.org/" TargetMode="External"/><Relationship Id="rId3" Type="http://schemas.openxmlformats.org/officeDocument/2006/relationships/hyperlink" Target="http://learningtimes.org/" TargetMode="External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22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Conferen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-12 Onlin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nectivism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Onlin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dublog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owing community of authors who blog to share ideas around educational technology and other education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dublog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avid War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ill Richar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icki D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1121040" cy="129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520040" y="3809880"/>
            <a:ext cx="115092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09680" y="5029200"/>
            <a:ext cx="968400" cy="141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Book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any on-line book(lets) are being published and made available for free on the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stly written in collaborative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Book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ing of Age 2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e01318"/>
                </a:solidFill>
                <a:latin typeface="Arial"/>
              </a:rPr>
              <a:t>An Introduction to the NEW worldwide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Lesson Plan Idea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lessonplanspag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school.discovery.com/lessonpla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teach-nology.com/teachers/lesson_pla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microsoft.com/Education/LessonPlans.msp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ounger and younger children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cessing on-line materials – at 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types of risky behaviors are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eing with our young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ust what can we do to make sure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ve the safest environment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Plans d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Presentations start next Tu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structor &amp; Peer assessment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edule of presentations on the wiki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ber Safety; The role of the scho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Do It Yourself" Professional Development &amp; Resourc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Keeping our Children Safe on the Net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3581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yber-safety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84800" y="533520"/>
            <a:ext cx="3498840" cy="525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Keeping Our Children Saf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is a video w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523880"/>
            <a:ext cx="8610480" cy="472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ersonal Professional Development for Teachers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ersonal Professional Develop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y as Life-l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el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es / Courses /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chnology –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growing opportunities in asynchronous learning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01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echnology Assisted On-line Learn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Con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du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Books /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sson 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ebin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seminars /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time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Conferen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nferences delivered on-line (audio and vide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Key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nd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ve and Archived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2-22T18:04:18Z</dcterms:modified>
  <cp:revision>35</cp:revision>
  <dc:subject/>
  <dc:title>Welcome to  ED3862</dc:title>
</cp:coreProperties>
</file>